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AB3-CA4E-4F62-91A8-1D305FA2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E1F-1049-48F6-AB88-AF3092A9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C38-6AEB-422C-B2EF-774C19AC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713-D02F-4E24-8E4F-B33DAEC1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DC1-9D24-4FF5-A6E7-51535CA9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F52-BF44-438D-8860-1084A959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D13-8ED1-4AF8-BA83-B17BFFC2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04F-2B6E-4FAA-9F16-2A64B7CF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FE9-9DAD-428A-9B8A-F81CACF7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144-2486-4E8A-8196-F1DCD101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F05-DD52-4438-9B60-42562A5C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B80-90D1-4B80-96D6-79A9EF02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6A03-6DD5-490F-8866-DDBC8D09D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e der Spielergebnisse durch den Spielle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arkt, Marketing-Mix, Nachfrage, Absatz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n Teilnehmerberi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11: Marktforschungsbe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Executive Summary      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0" y="4214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ckungsbeitrag und E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m Seminarleiterbericht Deckungsbeiträge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ilnehmerbericht 8: Deckungsbeitragsre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0" y="5357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lanzanalyse insbesondere auch Entwicklung des Fremdk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Seminarleiterberichten V: Geschäftsberichte der Branch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7: Kennzahl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dem Teilnehmerbericht 9: Finanzbericht und Bilan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0" y="17859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    Auslastung der Produktionsfaktoren (Maschinen, Arbeiter, Materi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Teilnehmerbericht 4 Flächenverwendung, Abschreibungen, Kapazität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III: Interne Abläu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8"/>
          <p:cNvSpPr/>
          <p:nvPr/>
        </p:nvSpPr>
        <p:spPr>
          <a:xfrm>
            <a:off x="0" y="3071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stensitu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besondere Entwicklung der Herstellkosten mit den Teilnehmerbericht 7: Kostenträgerrechnung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inarleiterbericht 7: Kennzahl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7:06:17Z</dcterms:created>
  <dc:creator>aka</dc:creator>
  <dc:description/>
  <dc:language>en-US</dc:language>
  <cp:lastModifiedBy>EGS</cp:lastModifiedBy>
  <dcterms:modified xsi:type="dcterms:W3CDTF">2009-06-08T21:13:44Z</dcterms:modified>
  <cp:revision>11</cp:revision>
  <dc:subject/>
  <dc:title>Folie 1</dc:title>
</cp:coreProperties>
</file>